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37-82B5-44BD-B6B6-994A2AEF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477-0110-4E4F-9C61-94BE567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C4D-ABB7-486A-8EB1-719A845A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29A-2153-497D-B80D-A254B76F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03F-510B-4BCD-B20E-AC18720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9727-2DE0-4F1D-85AE-B330960E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ACB5-3180-4F83-B41B-D46672D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BF2-41E5-41FD-9B34-5332D23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343-38E6-41F6-A93C-5B1FADAB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A46C-BD6B-4264-8150-1595953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F7B8-7E2F-4EC4-9D13-5547492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695-922A-4A40-997C-7997FBA6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05E-46BE-4743-96BD-698986A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AE8E-9296-4984-A2B8-89A23CB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F483-E88D-4979-92A4-A7815B9F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02DA-6812-40A3-AD61-C77EEAAD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CAB-9EDA-434D-A141-7C0DD666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1F4F8-7DB6-476A-B362-00F0DC3E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A5CEE-CCB5-4120-ABC7-406A73F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F23D8-8A0D-4E37-B448-6C5CCAE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C76CB-315B-4250-90DD-D9637A0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A7871-5088-4308-9D43-EAC84D4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BBF-10BA-4A4F-B966-50A02F60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D1716-4D21-4B8A-AC74-F52B768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6A51D-CA33-48FA-A7AD-D137252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DAE09-7274-4C22-B127-A98126B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92391-3193-465E-B5B1-BD4E4E9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2A538-FD79-4179-8EB7-C45C5EB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023ED-E12A-4D18-A959-B1B2A6C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250D0-906F-4407-BAFE-47003424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CD2A-919A-436F-97E6-0F6604A2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253B-DABE-451C-8B75-A964D25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9AEC-729E-40BC-B0BE-A3816B9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C1C-46DC-40E5-B5B6-3EA676CD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4A36-97D2-43C6-A80F-45DE477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7376-7065-4FCC-B5D1-2E553E10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7264-69E8-42C1-9A3A-340628E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A67E-2AC2-4134-B8D5-0944436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C565-C808-4ED3-AB0E-0BE0B1E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E032-69C6-4D1D-AE3F-FF171F1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5CB4-AE16-4FD4-8052-84D1355C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8456-2D0F-43B3-823B-67B2AE8F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EF2A-9D55-4270-BCE6-3F112275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BA0-DA3B-4633-A893-21EB2239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987-43B1-4B93-BF5C-8E28CD2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882-AB43-4FED-B74B-CD908A5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556-87AD-49A1-8894-CB39288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406-4CB6-4FCE-9F52-9EA21E6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E42E-EAC2-4F0C-81F6-3521E2ED2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D8D-BA10-4F1C-9490-25D554128BB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A66-3C9E-43FC-8C9F-0EB9AE1DB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2A82-7EED-4B60-9457-974D4B321AD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3280" y="611352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тор: Гаврилец И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1837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1547640" y="2492280"/>
            <a:ext cx="608652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оби вокруг на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93800" y="4581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5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00040" y="5493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ожет ли существовать математика без дробей?</a:t>
            </a:r>
            <a:r>
              <a:rPr b="1" lang="ru-RU" sz="41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чего нужны дроб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математике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де они ещ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уются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school19-07"/>
          <p:cNvPicPr/>
          <p:nvPr/>
        </p:nvPicPr>
        <p:blipFill>
          <a:blip r:embed="rId1"/>
          <a:stretch/>
        </p:blipFill>
        <p:spPr>
          <a:xfrm>
            <a:off x="4716360" y="234936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2133360"/>
            <a:ext cx="657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Как возникли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Зачем нужны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Как умножать и делить десятичные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7" descr="school10-09"/>
          <p:cNvPicPr/>
          <p:nvPr/>
        </p:nvPicPr>
        <p:blipFill>
          <a:blip r:embed="rId1"/>
          <a:stretch/>
        </p:blipFill>
        <p:spPr>
          <a:xfrm>
            <a:off x="6562800" y="1928880"/>
            <a:ext cx="2581200" cy="4295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336680" y="1125360"/>
            <a:ext cx="41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наете ли вы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у начн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начала необходи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иться на рав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команд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думайте наз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ан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school02-21"/>
          <p:cNvPicPr/>
          <p:nvPr/>
        </p:nvPicPr>
        <p:blipFill>
          <a:blip r:embed="rId1"/>
          <a:stretch/>
        </p:blipFill>
        <p:spPr>
          <a:xfrm>
            <a:off x="5527800" y="1916280"/>
            <a:ext cx="361620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4920" y="836640"/>
            <a:ext cx="727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Как возникли дроб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каких  источник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упоминается 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б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роби, какие они в Древнем Вавило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ак относились к дроб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ревней Гре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Где впервые стали записыват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дроби с помощью числителя и знаменателя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school02-28"/>
          <p:cNvPicPr/>
          <p:nvPr/>
        </p:nvPicPr>
        <p:blipFill>
          <a:blip r:embed="rId1"/>
          <a:stretch/>
        </p:blipFill>
        <p:spPr>
          <a:xfrm>
            <a:off x="6516720" y="1989000"/>
            <a:ext cx="2448000" cy="4104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492360" y="189000"/>
            <a:ext cx="22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11280" y="14842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Люди каких професс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вое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уют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Какие задачи на дроб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ни решаю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school02-11"/>
          <p:cNvPicPr/>
          <p:nvPr/>
        </p:nvPicPr>
        <p:blipFill>
          <a:blip r:embed="rId1"/>
          <a:stretch/>
        </p:blipFill>
        <p:spPr>
          <a:xfrm>
            <a:off x="5796000" y="2492280"/>
            <a:ext cx="2448000" cy="3311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492360" y="189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Как выполнить действие с дроб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умножи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Как дели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school19-07"/>
          <p:cNvPicPr/>
          <p:nvPr/>
        </p:nvPicPr>
        <p:blipFill>
          <a:blip r:embed="rId1"/>
          <a:stretch/>
        </p:blipFill>
        <p:spPr>
          <a:xfrm>
            <a:off x="5357880" y="2637000"/>
            <a:ext cx="3786120" cy="4005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492360" y="189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I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700" spc="-1" strike="noStrike">
                <a:solidFill>
                  <a:srgbClr val="ffff00"/>
                </a:solidFill>
                <a:latin typeface="Arial"/>
              </a:rPr>
              <a:t>Желаю Удачи!</a:t>
            </a:r>
            <a:endParaRPr b="0" lang="en-US" sz="1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5009</cp:lastModifiedBy>
  <dcterms:modified xsi:type="dcterms:W3CDTF">2010-06-07T10:52:47Z</dcterms:modified>
  <cp:revision>34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